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698-FB1A-4C0B-A7F3-3382F7DD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B1F-4B18-41C4-B123-19CA4583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CA3-B4BF-441C-8566-51EE99CB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2A9-E130-4183-B82C-0ED1CCD4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8922-1C21-4161-A034-2D2DC62F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21DD-1F69-4D26-8BF4-B759EAE8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A79A-0DA4-4DF3-96B2-C525B50F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B8AF-157A-4A96-A362-164613A1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D112-29A3-4D19-B38F-6B4AA0DC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0A2-3BA3-4266-9F8D-59E9540E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6BC6-5F90-4113-BB50-B698F26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18E-65F5-449B-8E7C-767BC9DD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546-A6A7-41B6-8863-B11FBBC3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5594-3C1C-43C1-A4EE-3A3845A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E96A-17AE-4219-9063-E86C099D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FDD1-5517-4067-AB70-07ECB13A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ADC8-9134-426C-AB9B-008A1195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636-9D04-4759-B374-83B9BF79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4B3-BF29-4AA1-B252-683C8C8E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595-611A-440C-9165-3E594E8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F48-76F3-46D8-982C-DA380185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D1A-8E37-4D1F-AFC3-B514CA8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722D-DD03-4AE5-8B02-3E290E9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E71-3AC9-4B3B-8C46-8245B9C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1E67-5F3D-45E4-8EE1-83FFBE705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3A27-38ED-441F-AEE5-F8CA8EE63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ottonopolis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wiz.com/napoleon-mm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Bastille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troduction to Romanticis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ior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Industrial Revo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conomy of Great Brittan changed from agriculturally centered to industry cent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boom in industry led to unsafe working conditions and child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s young as 6 worked in factories for 16 hour shifts with only one 40 minute lunch break. Children were often whipped if they refused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ise in industry eventually lead to the emergence of re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Manchester, England (&quot;Cottonopolis&quot;), pictured in 1840, showing the mass of factory chimney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ictures from 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Little Histo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ticism took place at the end of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as did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French Revolu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ecame agitated because taxes were being raised and wages were being dro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lief that people are equal and naturally good made citizens want a government that reflected the will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is reason, a group of peasants stormed The Bast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Napoleon by Davi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04920"/>
            <a:ext cx="8534160" cy="579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Bastil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tille was a political prison in F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soners in had broken no laws, there were there because the king suspected them of disloy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July 14, 1789 the prison was stormed and the prisoners were fr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The Bastil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28600"/>
            <a:ext cx="8458200" cy="662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Image:Prise de la Bastille.jpg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Reign of Terro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al was to eliminate “enemies of the republic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3,000 people were executed by guillot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ad flimsy charges such as a bar owner who was killed for selling sour wine to soldi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51:45Z</dcterms:created>
  <dc:creator>user</dc:creator>
  <dc:description/>
  <dc:language>en-US</dc:language>
  <cp:lastModifiedBy>Center School District</cp:lastModifiedBy>
  <dcterms:modified xsi:type="dcterms:W3CDTF">2007-02-02T19:22:18Z</dcterms:modified>
  <cp:revision>7</cp:revision>
  <dc:subject/>
  <dc:title>Introduction to Romanticism</dc:title>
</cp:coreProperties>
</file>